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A26-C2C5-482E-8C85-163F41C5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B43-1D62-4AA9-86E7-E8321CAE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7AD-74B2-4C6C-AC36-BC47FA93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C79-1F76-4E45-B7BF-C8EA9115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F8E7-D827-4D68-ADB1-9F372407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020-AB0F-4B46-8882-4A8BEA86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D38E-E0BC-4AB8-8288-C35EB6E4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D9E1-0786-420B-BD5C-CBF3886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B14D-D251-43C3-92D0-78F50BD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93A-B4A9-48C5-BF0D-BAB77F1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B8B8-9EDE-47BD-9BAC-D0775AF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8A3-3867-4D05-84DC-1303F068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2C4-F59C-4F6B-A07B-279EB1D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A267-F69B-4055-8FFD-4132174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2EC1-8BDB-41B3-81E6-E4E344F2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304-37EA-4320-B35E-578215CA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BE4-765A-4E08-AB3C-6CEF5402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9A7D-3B78-42F0-922F-3E807EA0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C06A-53C1-460E-B149-01A8FBE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3E70-CAC3-4361-8F03-8FBEBF4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8FF7-6739-459A-B94F-AFF74CA3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F352-009B-4304-8FF9-56FC9BC2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7FB-B14D-45A8-B956-9BA5497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F2AB-D120-47DA-9396-1701EF23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6BE8-386B-4120-9566-F5AA407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C81A-D55B-4F77-AD49-D8C35339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167E-C3CC-44AA-BF33-FE71AFBE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6F30-09A0-4CBF-A705-AA9044FC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24A2-F4C2-4E59-B759-CEA8113D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F0D1-C0F4-42C8-B51F-4E586AA9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F328-CF01-4A84-962F-46BB1266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7286-382E-40EE-A291-92ED50C1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72C4-4223-4C33-B5E4-5FC78EA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A94-2F1E-4CC1-933F-F1CB932B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F1C1-EB83-4EDB-AAC0-770C692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28C9-C443-412D-BE12-B6DD3FF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1621-E895-40C5-A946-5AFFEA6D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76BD-1C58-4CBB-8FCB-3034E50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1E2B-48D7-47F0-96A9-E9C4457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D83D-9BBB-4B88-B0E6-D72016C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F5A7-0C9F-47EE-BA24-3EF97D7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6F92-3633-4A27-A9A1-85046F0F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444E-259F-4109-9710-3957A2D5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8B70-0D7A-4C37-83CD-F455694C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2CF-B468-4BCB-A749-EA271F4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53CB-BF46-4CEA-9A99-47414C72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F432-AD0C-41C5-82DC-53E487AA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4C8AC-D7B1-4FFE-88FC-08E2AAB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5077-D1A0-4B54-B387-E2AD985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A6445-563F-4BB5-AD67-FA69112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7C65-A746-4588-BEBC-9108E14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E5E4-FDA6-40B1-B8B0-0A4CDA31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7FC43-D11F-4C5D-93D6-56FAC50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F57E-2E4D-430F-9707-6E73079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C890D-EFBF-463A-9F6C-DA31C005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09D-94E7-4B81-B368-048CF9C9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1406-BB2D-4344-A3E9-37375C61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2652-CA8A-4F3F-AA23-6A4A4A04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270C-4B10-46E6-AA68-FD7CF937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E54D-46DF-4559-8702-77BE9D3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264D-AE86-42A9-BD23-832B8A3E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F2A1-A10C-432E-8B92-077CCB8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C851-4A34-4390-9D5B-A23F439D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85F2-A777-4CA1-BBCA-F1998B6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1CCB-3AC2-4909-8108-815DB33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438F5-F1D3-40C9-8A61-09DDC103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D06-FCE0-4E75-AA53-F7A0444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C96C-9AF0-4FFA-A942-77BDAF40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10F3-87DD-47F8-BF0A-884CA31B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26703-D8C7-42B7-9901-4375F953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741-09F5-42BF-91F1-090FDD4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314-9757-4B10-9CDC-90848A3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000-92F3-40C8-9A14-040A4E97BA07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791-CDB1-42B3-8BD5-F8BA07ED007C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223A-BF9B-4385-8547-1F9C38E1DBC7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DEB-A1CE-4A5C-A589-AC1365C8CE7C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C00-ECF1-4788-A4DF-5672A2DA7352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89DE-9CB5-41C1-B32E-DC8BD8599A99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53920" y="291960"/>
            <a:ext cx="64915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28920" y="3857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Trâncă Rareș-Andr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lasa a-VII-a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Disciplina-Cultură Civic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Franklin Gothic Book"/>
              </a:rPr>
              <a:t>...pentru început.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Eu su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are aparține Universului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are aparține Terrei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are aparține Europe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ăruia statul Român ii oferă drepturi și îndatoriri.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storage0.dms.mpinteractiv.ro/media/401/421/6729/2349953/1/foisoru-scolii.jp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002060"/>
                </a:solidFill>
                <a:latin typeface="Franklin Gothic Book"/>
              </a:rPr>
              <a:t>Copil </a:t>
            </a:r>
            <a:r>
              <a:rPr b="0" lang="ro-RO" sz="4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în școala “Mihai Vodă”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d0d0d"/>
                </a:solidFill>
                <a:latin typeface="Arial"/>
              </a:rPr>
              <a:t>Acest centru de învățământ din mediul rural, oferă condiții foarte bune de învățământ, stimulând elevii prin diverse ocncursuri cu premii, campionate sportive, parteneriate internationale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d0d0d"/>
                </a:solidFill>
                <a:latin typeface="Arial"/>
              </a:rPr>
              <a:t>Personal....am o părere foarte bună despre școala în care primesc o educație bună care să mă formeze ca om în viață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bacmd.com/blog/wp-content/uploads/2009/04/el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o-RO" sz="4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ev</a:t>
            </a:r>
            <a:r>
              <a:rPr b="0" lang="ro-RO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în școala “Mihai Vodă”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Ca în orice școală,nu este ușor....dar....pentru rezultate bune....trebuie muncă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La acest capitol....suntem ajutați de profesori...care ne ajută sa învățăm într-un mediu plăcut și ocrotitor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ățean al comunei Mihai Viteazu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Trăiesc într-o comunitate de oameni uniți, buni și gospodar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Mă pot mândri cu faptul că aparțin acestei comune....deoarece acest punct de pe hartă, Mihai Viteazu, ascunde o populație de aproximativ 7 milioane de locuitori care, împreună au reușit să construiască o localitate modernă, care să atragă turiștii și să dea bună dispoziție cetățenil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ățean româ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ânia este o țară liberă,cu o economie în curs de dezvol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eră multe drepturi cetățenilor săi, chiar dacă economia nu este foarte bine dezvoltat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ar dacă mulți oameni din afară detestă această țară înfloritoare,plină de bogății, cu un trecut zbuciumat,eu sunt mândru că sunt român orice s-ar întâmp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Franklin Gothic Book"/>
              </a:rPr>
              <a:t>Viitorul..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Vreau ca la sfârșitul clasei a-12-a să calc mândru pragul Colegiului Național Mihai Viteazu cu diploma de Bacalaureat în mână...iar după aceea să fiu absolventul Facultății de Medicină...și să devin un medic priceput...cu o familie unită si iubitoar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3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ă mulțumesc pentru atenție!!!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44:44Z</dcterms:created>
  <dc:creator>rares</dc:creator>
  <dc:description/>
  <dc:language>en-US</dc:language>
  <cp:lastModifiedBy>rares</cp:lastModifiedBy>
  <dcterms:modified xsi:type="dcterms:W3CDTF">2010-01-27T20:31:44Z</dcterms:modified>
  <cp:revision>11</cp:revision>
  <dc:subject/>
  <dc:title>CINE SUNT EU?</dc:title>
</cp:coreProperties>
</file>